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718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7180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D6BB-0816-4C99-9F42-200CF54F52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2AC4-5DB5-471C-8BD0-5843AD8F091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5031-4999-473B-BFEA-A1C450F077C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DBA6-9B54-4862-B2A1-0A2CD0B3E1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91FC-6198-4D74-B1D6-22F650B4A7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4A5D-8FA5-4930-9713-7F9FFE2E67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B212-78CF-4F0A-BD7C-C7E3FBC3B3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25FA-F703-42B0-963D-F2C336AD2E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0245-EB77-40D9-A0A7-254650F866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B7BE-0537-4E9A-A22C-EB4E6FC3DD5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6863-E83F-4ECF-830B-637D90D8F9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DB2F-AA21-4D7D-96CB-B97111380E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5EAE-0DDE-45C0-A4B4-B1D4D15598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40CE-3311-4F7B-8768-DE95CF16A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E92A-A43C-4A1F-8DBF-13514895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DCA6-5FF2-4F90-9FFC-9FB4096B2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E52F-99EE-4087-B607-CC074C301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A269-5A00-4AFF-99AB-70E4D1FE0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AA8E-7EFF-4F1B-9FE2-B54A2B4B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F121-2EE9-4E14-A620-998A620A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B60B-1F86-4382-8036-ED3F7E7F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6905-600E-4D01-B3F1-C7F67F65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3111-BB54-464C-9080-9321EBB5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A55B-37A1-4E91-8282-D2FEB286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B6B7-0BC6-4557-A01E-6B1B935D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112C-19C4-4503-AA43-8C0714FF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A089-76E2-42F2-8A6C-B9525E40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A8B8-C568-43A8-ABE7-E3835BCA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6382-0EC7-4FB7-B505-2A315018F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AE2D-D3C2-45F5-9922-D4A0600AC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3209-32C3-4AF0-A943-EF9655C3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FC91-52E3-4606-BCC0-39ABED6B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0BA8-44CC-4DA0-B6B0-5D6F88D7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CBAC-5879-40A0-B5AD-662394B5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25B2-E97B-4FF9-9BC9-FBA07851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28D4-DEF2-45FB-ACEF-55133F20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6805-5390-4DE2-97D0-350B9402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47EE-F60B-4297-815F-A56FC4E7D2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6460-89C4-4A7B-AD95-6944D8A66A5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man Old Style"/>
              </a:rPr>
              <a:t>Итоговая сессия Ученого совета РГГМ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24-25 </a:t>
            </a:r>
            <a:r>
              <a:rPr b="1" lang="ru-RU" sz="3600" spc="-1" strike="noStrike">
                <a:solidFill>
                  <a:srgbClr val="ff3300"/>
                </a:solidFill>
                <a:latin typeface="Bookman Old Style"/>
              </a:rPr>
              <a:t>января 20</a:t>
            </a: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12</a:t>
            </a:r>
            <a:r>
              <a:rPr b="1" lang="ru-RU" sz="3600" spc="-1" strike="noStrike">
                <a:solidFill>
                  <a:srgbClr val="ff3300"/>
                </a:solidFill>
                <a:latin typeface="Bookman Old Style"/>
              </a:rPr>
              <a:t> го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Сведения о НИР </a:t>
            </a:r>
            <a:r>
              <a:rPr b="1" lang="ru-RU" sz="2400" spc="-1" strike="noStrike">
                <a:solidFill>
                  <a:srgbClr val="ff3300"/>
                </a:solidFill>
                <a:latin typeface="Bookman Old Style"/>
              </a:rPr>
              <a:t>по кафедрам / подразделениям РГГМУ</a:t>
            </a: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 в 2010 году (часть 2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79280" y="712800"/>
          <a:ext cx="8785440" cy="6032520"/>
        </p:xfrm>
        <a:graphic>
          <a:graphicData uri="http://schemas.openxmlformats.org/drawingml/2006/table">
            <a:tbl>
              <a:tblPr/>
              <a:tblGrid>
                <a:gridCol w="2346480"/>
                <a:gridCol w="3125880"/>
                <a:gridCol w="1309680"/>
                <a:gridCol w="2003400"/>
              </a:tblGrid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Кафед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Кол-во те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48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Экологии и физики природной сре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Прикладной эколог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64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Физи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7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Математи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 524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Химии природной сре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Эколог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617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48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Экономический и социально-гуманитар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Экономики и менеджмен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Экономики предприятия и учетных систе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Социально-гуманитарных нау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Прикладной информати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Связей с общественность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НИ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1 941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В т.ч.: - Морско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    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институ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45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    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 ИГЭ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3 199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 Лаборатория спутниковой океанограф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5 0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56 137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Гранты (конкурсы)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выигранные студентами, аспирантами, молодыми учеными и молодыми кандидатами наук РГГМУ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0" name="Object 7"/>
          <p:cNvGraphicFramePr/>
          <p:nvPr/>
        </p:nvGraphicFramePr>
        <p:xfrm>
          <a:off x="181080" y="1486080"/>
          <a:ext cx="8543880" cy="533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1486080"/>
                    <a:ext cx="854388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ичество студентов и аспирантов, участвовавши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в выполнении НИР темплана РГГМУ в 2011 году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3" name="Object 8"/>
          <p:cNvGraphicFramePr/>
          <p:nvPr/>
        </p:nvGraphicFramePr>
        <p:xfrm>
          <a:off x="828720" y="1992240"/>
          <a:ext cx="7277040" cy="332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1992240"/>
                    <a:ext cx="7277040" cy="33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Участие в выставках и конференциях в 201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 году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6880" cy="35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Выставки</a:t>
            </a:r>
            <a:r>
              <a:rPr b="1" lang="ru-RU" sz="1600" spc="-1" strike="noStrike">
                <a:solidFill>
                  <a:srgbClr val="ffffff"/>
                </a:solidFill>
                <a:latin typeface="Bookman Old Style"/>
              </a:rPr>
              <a:t>, всего – </a:t>
            </a:r>
            <a:r>
              <a:rPr b="1" lang="en-US" sz="1600" spc="-1" strike="noStrike">
                <a:solidFill>
                  <a:srgbClr val="ff0000"/>
                </a:solidFill>
                <a:latin typeface="Bookman Old Style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Bookman Old Style"/>
              </a:rPr>
              <a:t>в том числе   международные </a:t>
            </a: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Bookman Old Style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Премии, дипломы, награды</a:t>
            </a:r>
            <a:r>
              <a:rPr b="1" lang="ru-RU" sz="1600" spc="-1" strike="noStrike">
                <a:solidFill>
                  <a:srgbClr val="ffffff"/>
                </a:solidFill>
                <a:latin typeface="Bookman Old Style"/>
              </a:rPr>
              <a:t> - </a:t>
            </a:r>
            <a:r>
              <a:rPr b="1" lang="en-US" sz="1600" spc="-1" strike="noStrike">
                <a:solidFill>
                  <a:srgbClr val="ff0000"/>
                </a:solidFill>
                <a:latin typeface="Bookman Old Style"/>
              </a:rPr>
              <a:t>3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Bookman Old Style"/>
              </a:rPr>
              <a:t>Конференции –</a:t>
            </a:r>
            <a:r>
              <a:rPr b="1" lang="ru-RU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Bookman Old Style"/>
              </a:rPr>
              <a:t>167</a:t>
            </a:r>
            <a:r>
              <a:rPr b="1" lang="ru-RU" sz="1600" spc="-1" strike="noStrike">
                <a:solidFill>
                  <a:srgbClr val="ffffff"/>
                </a:solidFill>
                <a:latin typeface="Bookman Old Style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man Old Style"/>
              </a:rPr>
              <a:t>в том числе  на базе вуза -  </a:t>
            </a:r>
            <a:r>
              <a:rPr b="0" lang="en-US" sz="1600" spc="-1" strike="noStrike">
                <a:solidFill>
                  <a:srgbClr val="ff0000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Количество сотрудников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выступивших на конференциях с докладами</a:t>
            </a:r>
            <a:r>
              <a:rPr b="1" lang="ru-RU" sz="1600" spc="-1" strike="noStrike">
                <a:solidFill>
                  <a:srgbClr val="ffffff"/>
                </a:solidFill>
                <a:latin typeface="Bookman Old Style"/>
              </a:rPr>
              <a:t> – </a:t>
            </a:r>
            <a:r>
              <a:rPr b="1" lang="en-US" sz="1600" spc="-1" strike="noStrike">
                <a:solidFill>
                  <a:srgbClr val="ff0000"/>
                </a:solidFill>
                <a:latin typeface="Bookman Old Style"/>
              </a:rPr>
              <a:t>16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Издательская деятельность в 201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году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684360" y="836640"/>
          <a:ext cx="7991280" cy="4976640"/>
        </p:xfrm>
        <a:graphic>
          <a:graphicData uri="http://schemas.openxmlformats.org/drawingml/2006/table">
            <a:tbl>
              <a:tblPr/>
              <a:tblGrid>
                <a:gridCol w="5937120"/>
                <a:gridCol w="205416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Монографии, 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 из них изданные вуз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Количество публикаций в сборниках трудов конференц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в том числе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международных научных конференций, симпозиум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Учебники и учебные пособ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Статьи, 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8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 в зарубежных издания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 в российских издания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lus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ленарное заседание</a:t>
            </a:r>
            <a:br>
              <a:rPr sz="1800"/>
            </a:b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2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4</a:t>
            </a: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 января 20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12</a:t>
            </a: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 г., Актовый зал РГГМУ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ступительное сло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Ректор, д.ф-м.н., проф. Л.Н. Карли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учная деятельность университета в 2011 год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Проректор по НР, к.г.н., проф. В.Н. Воробье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временное состояние морской природной среды в районах подводных отвалов грунта  в восточной части Финского зали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Шилин М.Б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д.г.н., проф. (каф. ПО и ОПВ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лияние климатической нормы приземной температуры воздуха на фрактальную размерность рядов многолетнего речного сто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Гайдукова Е.В.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к.т.н., доцент (каф. Гидрофизики и гидропрогнозов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формационные технологии в учебном процесс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Истомин Е.П. д.э.н., проф., декан факультета Информационных систем и геотехнолог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нешние технологии в исследовании состояния качества сложных природно-технических систе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Музалевский А.А. д.т.н., проф. (каф. Экологии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колого-экономические характеристики инвестиционных проект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Петрова Е.Е. к.э.н., зав. каф. Экономики предприятия и учетных систе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оль воды в механизме солнечно-земных связе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Чукин В. В. к.ф-м.н., доц.  (каф. ЭФА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ормирование научно-методического обеспечения использования веб-технологий при подготовке профессиональных кадров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Трубина М.А. к.г.н., нач. ИВЦ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755640" y="1700280"/>
            <a:ext cx="7632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Научная деятельность</a:t>
            </a:r>
            <a:r>
              <a:rPr b="1" lang="ru-RU" sz="3200" spc="-1" strike="noStrike">
                <a:solidFill>
                  <a:srgbClr val="ccecff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Российского государственного гидрометеорологического университ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в 20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11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 го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Основные научные направления </a:t>
            </a:r>
            <a:r>
              <a:rPr b="1" lang="ru-RU" sz="2400" spc="-1" strike="noStrike">
                <a:solidFill>
                  <a:srgbClr val="ff3300"/>
                </a:solidFill>
                <a:latin typeface="Bookman Old Style"/>
              </a:rPr>
              <a:t>РГГМУ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971640" y="765000"/>
          <a:ext cx="6983280" cy="5775480"/>
        </p:xfrm>
        <a:graphic>
          <a:graphicData uri="http://schemas.openxmlformats.org/drawingml/2006/table">
            <a:tbl>
              <a:tblPr/>
              <a:tblGrid>
                <a:gridCol w="441360"/>
                <a:gridCol w="654192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Название научного направления (научной школы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храна окружающей среды, мониторинг, моделирование возникновения и развития природных и техногенных процессов на водных объектах и в атмосфер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оретические и экспериментальные исследования гидрофизических, гидрохимических и гидробиологических процессов в морях и прибрежных зонах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учение динамики водных ресурсов и качества вод в условиях естественного развития гидрометеорологических процессов с целью создания системы наиболее рационального использования и охраны поверхностных вод суш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следования атмосферных процессов и явлений, оценка изменений климата под влиянием естественных и антропогенных факторов в интересах обеспечения народного хозяйства и охраны окружающей среды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здание диагностических и прогностических моделей развития природных и техногенных катастрофических ситуаций на водных объектах и в приземном слое атмосферы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ногосенсорные геоинформационные системы дистанционного мониторинга окружающей среды. Технологии сбора, обработки, преобразования и моделирования геоинформации, информационная безопасность в геоинформационных системах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ономика и управление народным хозяйством, управление инновациями с учетом природных факторов, экономика природопользовани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учение текстовых лексико-грамматических и семантико-синтаксических особенностей подъязыка гидрометеорологии. Исследование научной, информационной и официально-деловой реч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0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учение системы комплексного управления прибрежными зонами морей России, устойчивого социально-экономического развития прибрежных территорий, рационального использования природных ресурсов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6520" y="291960"/>
            <a:ext cx="8138880" cy="71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Bookman Old Style"/>
              </a:rPr>
              <a:t>Сводные сведения</a:t>
            </a:r>
            <a:r>
              <a:rPr b="1" lang="ru-RU" sz="2600" spc="-1" strike="noStrike">
                <a:solidFill>
                  <a:srgbClr val="ffffff"/>
                </a:solidFill>
                <a:latin typeface="Bookman Old Style"/>
              </a:rPr>
              <a:t> о выполнении НИР</a:t>
            </a: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Bookman Old Style"/>
              </a:rPr>
              <a:t>в 201</a:t>
            </a: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ru-RU" sz="2600" spc="-1" strike="noStrike">
                <a:solidFill>
                  <a:srgbClr val="ffffff"/>
                </a:solidFill>
                <a:latin typeface="Bookman Old Style"/>
              </a:rPr>
              <a:t> году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8000" y="1341360"/>
          <a:ext cx="8785080" cy="4608720"/>
        </p:xfrm>
        <a:graphic>
          <a:graphicData uri="http://schemas.openxmlformats.org/drawingml/2006/table">
            <a:tbl>
              <a:tblPr/>
              <a:tblGrid>
                <a:gridCol w="684000"/>
                <a:gridCol w="4040280"/>
                <a:gridCol w="1611360"/>
                <a:gridCol w="2449440"/>
              </a:tblGrid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Источник финанс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Количество НИ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Объем, тыс. руб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Средства федерального бюдже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 978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Министерство образования и науки Р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7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16 882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РФФ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 795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Другие Министерст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1 35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Средства Субъектов Федер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 248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Хоздоговорные НИ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 81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Зарубежные контрак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 10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56 137</a:t>
                      </a: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AutoShape 674"/>
          <p:cNvSpPr/>
          <p:nvPr/>
        </p:nvSpPr>
        <p:spPr>
          <a:xfrm flipH="1">
            <a:off x="8674920" y="292428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678"/>
          <p:cNvSpPr/>
          <p:nvPr/>
        </p:nvSpPr>
        <p:spPr>
          <a:xfrm>
            <a:off x="8675640" y="3860640"/>
            <a:ext cx="144360" cy="287640"/>
          </a:xfrm>
          <a:prstGeom prst="downArrow">
            <a:avLst>
              <a:gd name="adj1" fmla="val 50000"/>
              <a:gd name="adj2" fmla="val 4981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687"/>
          <p:cNvSpPr/>
          <p:nvPr/>
        </p:nvSpPr>
        <p:spPr>
          <a:xfrm flipH="1">
            <a:off x="8674920" y="551664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806"/>
          <p:cNvSpPr/>
          <p:nvPr/>
        </p:nvSpPr>
        <p:spPr>
          <a:xfrm flipH="1">
            <a:off x="8674920" y="342900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807"/>
          <p:cNvSpPr/>
          <p:nvPr/>
        </p:nvSpPr>
        <p:spPr>
          <a:xfrm flipH="1">
            <a:off x="8674920" y="465300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809"/>
          <p:cNvSpPr/>
          <p:nvPr/>
        </p:nvSpPr>
        <p:spPr>
          <a:xfrm flipH="1">
            <a:off x="8674920" y="5084640"/>
            <a:ext cx="144360" cy="287640"/>
          </a:xfrm>
          <a:prstGeom prst="upArrow">
            <a:avLst>
              <a:gd name="adj1" fmla="val 50000"/>
              <a:gd name="adj2" fmla="val 4981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810"/>
          <p:cNvSpPr/>
          <p:nvPr/>
        </p:nvSpPr>
        <p:spPr>
          <a:xfrm>
            <a:off x="6227640" y="4292640"/>
            <a:ext cx="146160" cy="287280"/>
          </a:xfrm>
          <a:prstGeom prst="downArrow">
            <a:avLst>
              <a:gd name="adj1" fmla="val 50000"/>
              <a:gd name="adj2" fmla="val 4913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811"/>
          <p:cNvSpPr/>
          <p:nvPr/>
        </p:nvSpPr>
        <p:spPr>
          <a:xfrm flipH="1">
            <a:off x="6227640" y="5084640"/>
            <a:ext cx="144720" cy="287640"/>
          </a:xfrm>
          <a:prstGeom prst="upArrow">
            <a:avLst>
              <a:gd name="adj1" fmla="val 50000"/>
              <a:gd name="adj2" fmla="val 4968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814"/>
          <p:cNvSpPr/>
          <p:nvPr/>
        </p:nvSpPr>
        <p:spPr>
          <a:xfrm>
            <a:off x="8675640" y="429264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815"/>
          <p:cNvSpPr/>
          <p:nvPr/>
        </p:nvSpPr>
        <p:spPr>
          <a:xfrm>
            <a:off x="6227640" y="5589720"/>
            <a:ext cx="146160" cy="287280"/>
          </a:xfrm>
          <a:prstGeom prst="downArrow">
            <a:avLst>
              <a:gd name="adj1" fmla="val 50000"/>
              <a:gd name="adj2" fmla="val 4913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817"/>
          <p:cNvSpPr/>
          <p:nvPr/>
        </p:nvSpPr>
        <p:spPr>
          <a:xfrm flipH="1">
            <a:off x="8603640" y="2349360"/>
            <a:ext cx="144360" cy="287640"/>
          </a:xfrm>
          <a:prstGeom prst="upArrow">
            <a:avLst>
              <a:gd name="adj1" fmla="val 50000"/>
              <a:gd name="adj2" fmla="val 4981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862"/>
          <p:cNvSpPr/>
          <p:nvPr/>
        </p:nvSpPr>
        <p:spPr>
          <a:xfrm>
            <a:off x="6227640" y="3860640"/>
            <a:ext cx="146160" cy="287640"/>
          </a:xfrm>
          <a:prstGeom prst="downArrow">
            <a:avLst>
              <a:gd name="adj1" fmla="val 50000"/>
              <a:gd name="adj2" fmla="val 492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863"/>
          <p:cNvSpPr/>
          <p:nvPr/>
        </p:nvSpPr>
        <p:spPr>
          <a:xfrm flipH="1">
            <a:off x="6227640" y="2349360"/>
            <a:ext cx="144720" cy="287640"/>
          </a:xfrm>
          <a:prstGeom prst="upArrow">
            <a:avLst>
              <a:gd name="adj1" fmla="val 50000"/>
              <a:gd name="adj2" fmla="val 4968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864"/>
          <p:cNvSpPr/>
          <p:nvPr/>
        </p:nvSpPr>
        <p:spPr>
          <a:xfrm flipH="1">
            <a:off x="6227640" y="2924280"/>
            <a:ext cx="144720" cy="287280"/>
          </a:xfrm>
          <a:prstGeom prst="upArrow">
            <a:avLst>
              <a:gd name="adj1" fmla="val 50000"/>
              <a:gd name="adj2" fmla="val 4962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539640" y="333360"/>
          <a:ext cx="8226360" cy="606600"/>
        </p:xfrm>
        <a:graphic>
          <a:graphicData uri="http://schemas.openxmlformats.org/drawingml/2006/table">
            <a:tbl>
              <a:tblPr/>
              <a:tblGrid>
                <a:gridCol w="822636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бъемы НИР АВЦП, ФЦП в 201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Object 312"/>
          <p:cNvGraphicFramePr/>
          <p:nvPr/>
        </p:nvGraphicFramePr>
        <p:xfrm>
          <a:off x="971640" y="971640"/>
          <a:ext cx="8267760" cy="588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4" name="Object 3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971640"/>
                    <a:ext cx="8267760" cy="58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Распределение тем </a:t>
            </a:r>
            <a:r>
              <a:rPr b="1" lang="ru-RU" sz="2000" spc="-1" strike="noStrike">
                <a:solidFill>
                  <a:srgbClr val="ff3300"/>
                </a:solidFill>
                <a:latin typeface="Bookman Old Style"/>
              </a:rPr>
              <a:t>по факультетам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в 201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г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39640" y="765000"/>
          <a:ext cx="8353440" cy="5494680"/>
        </p:xfrm>
        <a:graphic>
          <a:graphicData uri="http://schemas.openxmlformats.org/drawingml/2006/table">
            <a:tbl>
              <a:tblPr/>
              <a:tblGrid>
                <a:gridCol w="3540240"/>
                <a:gridCol w="1789200"/>
                <a:gridCol w="3024000"/>
              </a:tblGrid>
              <a:tr h="509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Метеорологиче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4 350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Гидрологиче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7 157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Океанологиче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9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24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Экологии и физики природной сре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 406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Экономический и социально-гуманитар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НИ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1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41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В т.ч.: - Морской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институ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5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 ИГЭ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3 199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Лаборатория спутниковой океанограф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5 0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56 137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AutoShape 1117"/>
          <p:cNvSpPr/>
          <p:nvPr/>
        </p:nvSpPr>
        <p:spPr>
          <a:xfrm>
            <a:off x="5580000" y="134136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1118"/>
          <p:cNvSpPr/>
          <p:nvPr/>
        </p:nvSpPr>
        <p:spPr>
          <a:xfrm>
            <a:off x="8675640" y="170028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1119"/>
          <p:cNvSpPr/>
          <p:nvPr/>
        </p:nvSpPr>
        <p:spPr>
          <a:xfrm>
            <a:off x="8675640" y="206064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1121"/>
          <p:cNvSpPr/>
          <p:nvPr/>
        </p:nvSpPr>
        <p:spPr>
          <a:xfrm>
            <a:off x="8675640" y="134136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1123"/>
          <p:cNvSpPr/>
          <p:nvPr/>
        </p:nvSpPr>
        <p:spPr>
          <a:xfrm>
            <a:off x="5580000" y="170028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1124"/>
          <p:cNvSpPr/>
          <p:nvPr/>
        </p:nvSpPr>
        <p:spPr>
          <a:xfrm>
            <a:off x="5580000" y="371628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1125"/>
          <p:cNvSpPr/>
          <p:nvPr/>
        </p:nvSpPr>
        <p:spPr>
          <a:xfrm>
            <a:off x="8675640" y="321300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1126"/>
          <p:cNvSpPr/>
          <p:nvPr/>
        </p:nvSpPr>
        <p:spPr>
          <a:xfrm>
            <a:off x="5580000" y="321300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1127"/>
          <p:cNvSpPr/>
          <p:nvPr/>
        </p:nvSpPr>
        <p:spPr>
          <a:xfrm>
            <a:off x="8675640" y="378936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1128"/>
          <p:cNvSpPr/>
          <p:nvPr/>
        </p:nvSpPr>
        <p:spPr>
          <a:xfrm>
            <a:off x="8675640" y="436572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1129"/>
          <p:cNvSpPr/>
          <p:nvPr/>
        </p:nvSpPr>
        <p:spPr>
          <a:xfrm>
            <a:off x="8675640" y="479736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1154"/>
          <p:cNvSpPr/>
          <p:nvPr/>
        </p:nvSpPr>
        <p:spPr>
          <a:xfrm>
            <a:off x="8675640" y="580536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1155"/>
          <p:cNvSpPr/>
          <p:nvPr/>
        </p:nvSpPr>
        <p:spPr>
          <a:xfrm>
            <a:off x="5580000" y="479736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1156"/>
          <p:cNvSpPr/>
          <p:nvPr/>
        </p:nvSpPr>
        <p:spPr>
          <a:xfrm>
            <a:off x="5580000" y="213372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AutoShape 1157"/>
          <p:cNvSpPr/>
          <p:nvPr/>
        </p:nvSpPr>
        <p:spPr>
          <a:xfrm>
            <a:off x="5580000" y="263700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AutoShape 1158"/>
          <p:cNvSpPr/>
          <p:nvPr/>
        </p:nvSpPr>
        <p:spPr>
          <a:xfrm>
            <a:off x="8675640" y="263700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77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Сведения по НИР за 201</a:t>
            </a: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 год </a:t>
            </a:r>
            <a:r>
              <a:rPr b="1" lang="ru-RU" sz="2200" spc="-1" strike="noStrike">
                <a:solidFill>
                  <a:srgbClr val="ff3300"/>
                </a:solidFill>
                <a:latin typeface="Bookman Old Style"/>
              </a:rPr>
              <a:t>(по факультетам РГГМУ)</a:t>
            </a:r>
            <a:endParaRPr b="0" lang="en-US" sz="2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468360" y="1052640"/>
          <a:ext cx="8424720" cy="5613120"/>
        </p:xfrm>
        <a:graphic>
          <a:graphicData uri="http://schemas.openxmlformats.org/drawingml/2006/table">
            <a:tbl>
              <a:tblPr/>
              <a:tblGrid>
                <a:gridCol w="1441440"/>
                <a:gridCol w="287280"/>
                <a:gridCol w="720720"/>
                <a:gridCol w="289080"/>
                <a:gridCol w="647640"/>
                <a:gridCol w="287280"/>
                <a:gridCol w="574560"/>
                <a:gridCol w="289080"/>
                <a:gridCol w="684000"/>
                <a:gridCol w="179640"/>
                <a:gridCol w="649080"/>
                <a:gridCol w="287280"/>
                <a:gridCol w="646200"/>
                <a:gridCol w="505080"/>
                <a:gridCol w="936360"/>
              </a:tblGrid>
              <a:tr h="863280">
                <a:tc rowSpan="2">
                  <a:txBody>
                    <a:bodyPr lIns="36000" rIns="36000" tIns="540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нистерство образования и науки Российской Федераци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иональные программы (Санкт-Петербург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ФФ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з. договорные НИ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ругие минист-в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ждун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ект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теорологическ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 597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68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4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4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0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идрологическ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 157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7 1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7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еанологическ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 534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4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2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5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46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9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2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ологии и физики природной сред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906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500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406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ономических и соц.-гуман. нау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С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 096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48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2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6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5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,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6 158.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:  -  Морской институ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5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ИГЭ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199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3 199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 Лаборатория  спутниковой океанографи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 0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5 0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20832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 248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79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81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135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100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56137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0560" y="272520"/>
            <a:ext cx="8569080" cy="924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Сведения о НИР </a:t>
            </a:r>
            <a:r>
              <a:rPr b="1" lang="ru-RU" sz="2400" spc="-1" strike="noStrike">
                <a:solidFill>
                  <a:srgbClr val="ff3300"/>
                </a:solidFill>
                <a:latin typeface="Bookman Old Style"/>
              </a:rPr>
              <a:t>по кафедрам / подразделениям РГГМУ</a:t>
            </a: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 в 201</a:t>
            </a:r>
            <a:r>
              <a:rPr b="1" lang="en-US" sz="2400" spc="-1" strike="noStrike">
                <a:solidFill>
                  <a:srgbClr val="ccecff"/>
                </a:solidFill>
                <a:latin typeface="Bookman Old Style"/>
              </a:rPr>
              <a:t>1</a:t>
            </a: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 году (часть 1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79280" y="1700280"/>
          <a:ext cx="8785440" cy="4674960"/>
        </p:xfrm>
        <a:graphic>
          <a:graphicData uri="http://schemas.openxmlformats.org/drawingml/2006/table">
            <a:tbl>
              <a:tblPr/>
              <a:tblGrid>
                <a:gridCol w="2448000"/>
                <a:gridCol w="3097080"/>
                <a:gridCol w="1368720"/>
                <a:gridCol w="1871640"/>
              </a:tblGrid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Кафед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Кол-во те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4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Метеорологиче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ДАК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Метеорологических прогноз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0 851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ЭФ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 099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МКО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 4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7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Океанологиче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Океанолог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 059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КУП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8634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ПО и ОП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 8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9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ЮНЕСК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 662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МИ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 574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Гидрологиче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Гидрофизики и гидропрогноз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 072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Гидрологии суш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 506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Гидрометр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1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Геодезии и гидрогеолог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08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09:37Z</dcterms:created>
  <dc:creator>NIS-1</dc:creator>
  <dc:description/>
  <dc:language>en-US</dc:language>
  <cp:lastModifiedBy>Snt</cp:lastModifiedBy>
  <dcterms:modified xsi:type="dcterms:W3CDTF">2012-07-30T14:01:19Z</dcterms:modified>
  <cp:revision>558</cp:revision>
  <dc:subject/>
  <dc:title>Итоговая сессия Ученого совета РГГМУ</dc:title>
</cp:coreProperties>
</file>